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0AC-01C7-4389-8368-AEC8F58B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8DF-886D-4928-AC25-3C6250C4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7B7-74ED-4D58-BDD9-88584861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2D9-3020-4B9A-97F7-12A85389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855-3806-4DDE-86B6-B90189E5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25A-5496-4E8A-BA93-C8956AC8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A86-DD9F-4661-8C9B-122272BD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7C1-3DC3-4887-9E2B-23D14A0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085-0DD3-47C3-B51C-46FD1B6E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99B-D75B-4E03-994F-2859EFC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22A-962F-404E-B746-115EF8A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F07-BAE0-445C-A888-B436A62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9E8C-D7F3-4E84-B746-701C2BBE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lele creati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cest titlu gasiti o imagine relev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91132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2:18:46Z</dcterms:created>
  <dc:creator>owner</dc:creator>
  <dc:description/>
  <dc:language>en-US</dc:language>
  <cp:lastModifiedBy>owner</cp:lastModifiedBy>
  <dcterms:modified xsi:type="dcterms:W3CDTF">2009-07-28T08:17:14Z</dcterms:modified>
  <cp:revision>6</cp:revision>
  <dc:subject/>
  <dc:title>Citat biblic ziua I </dc:title>
</cp:coreProperties>
</file>